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A24-D472-4FCF-AEC2-CD8D7953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486-DBE6-4502-B171-D388132D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0EF-B655-4BBA-BF54-E986A130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F1E-124F-45E2-ABB9-78AB19D9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06B-E12B-4AFD-97EA-C5053A21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65A-D66A-4D0E-A548-F4A9180F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5CF-B842-4421-9C89-D0FA306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F3E-C8B5-4460-8B9A-AD9CDB9E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E6A-6962-43FB-9A55-FB7ECBD0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FA8-F77E-4B97-AA72-19D17A08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37B-E5D5-4CF9-8C2C-ECC026EC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6AF-4D18-4856-967D-583DE33B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F1C-0DD7-403E-874C-EE5B1FC195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 of H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eliminary tests are done by using DTC archived GF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odel configuration and physics are frozen at this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rt HFIP tests (27-9km, 9-3km)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ork on Output Module for TC tra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ork on 3rd nes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odel product transferred to AOML/H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nd swath and track (gra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m maximum wind and minimum sea level pressure (gra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CF data ar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-D fields on native grid and regular latitude and longitude grid on pressur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iki server will be available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ta server will be available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4:44:39Z</dcterms:created>
  <dc:creator>Xuejin Zhang</dc:creator>
  <dc:description/>
  <dc:language>en-US</dc:language>
  <cp:lastModifiedBy> gopal</cp:lastModifiedBy>
  <dcterms:modified xsi:type="dcterms:W3CDTF">2009-02-19T05:21:15Z</dcterms:modified>
  <cp:revision>3</cp:revision>
  <dc:subject/>
  <dc:title>Progress of HFIP test</dc:title>
</cp:coreProperties>
</file>